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F3B7-7D1E-4848-8017-405332204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1A00-365F-45B3-BDBD-BC8EAE466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6813-90FE-487B-903A-614E456C4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532B-5206-4515-BA55-E080BD82D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00F6-4008-479B-B89D-C8F1CB607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8577-4F0F-4B2D-BD8A-A744C42ED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303C-6ED4-4F5A-BF17-9FE00B2C8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A656-A1F4-4A72-BF7F-289671579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B773-DA4B-41A2-8246-FB1B754DF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702F-4F00-4406-9DB8-7C1B2A034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0D9D-1706-483B-822F-A94B63C02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E6B3-B8E5-407C-A66B-912EA5F00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FAED-0E11-4F09-947B-71E6EC1D1E5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7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an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come Stat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STATEMENT INFORMATION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0701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725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27B1-8124-4DF6-B125-04BBBC15AB5F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ING OF AN INCOM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070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2428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29400" y="1889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443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3032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267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company on the firs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627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report on the secon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87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date of the report on the thir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BE57-A4AB-413E-A10B-7A770F5068F9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057400" y="1981080"/>
            <a:ext cx="5028840" cy="2819520"/>
            <a:chOff x="2057400" y="1981080"/>
            <a:chExt cx="5028840" cy="2819520"/>
          </a:xfrm>
        </p:grpSpPr>
        <p:pic>
          <p:nvPicPr>
            <p:cNvPr id="103" name="C21_blue_0703" descr=""/>
            <p:cNvPicPr/>
            <p:nvPr/>
          </p:nvPicPr>
          <p:blipFill>
            <a:blip r:embed="rId1"/>
            <a:srcRect l="0" t="0" r="64907" b="0"/>
            <a:stretch/>
          </p:blipFill>
          <p:spPr>
            <a:xfrm>
              <a:off x="2057400" y="1981080"/>
              <a:ext cx="221256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C21_blue_0703" descr=""/>
            <p:cNvPicPr/>
            <p:nvPr/>
          </p:nvPicPr>
          <p:blipFill>
            <a:blip r:embed="rId2"/>
            <a:srcRect l="56386" t="0" r="0" b="0"/>
            <a:stretch/>
          </p:blipFill>
          <p:spPr>
            <a:xfrm>
              <a:off x="4337280" y="1981080"/>
              <a:ext cx="274896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, EXPENSES, AND NET INCOME SECTIONS OF AN INCOM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page 1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17480" y="2106720"/>
            <a:ext cx="1492200" cy="368280"/>
            <a:chOff x="717480" y="2106720"/>
            <a:chExt cx="1492200" cy="368280"/>
          </a:xfrm>
        </p:grpSpPr>
        <p:sp>
          <p:nvSpPr>
            <p:cNvPr id="108" name=""/>
            <p:cNvSpPr/>
            <p:nvPr/>
          </p:nvSpPr>
          <p:spPr>
            <a:xfrm>
              <a:off x="1888920" y="212904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480" y="2106720"/>
              <a:ext cx="10922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477120" y="2376360"/>
            <a:ext cx="2348640" cy="368280"/>
            <a:chOff x="6477120" y="2376360"/>
            <a:chExt cx="2348640" cy="368280"/>
          </a:xfrm>
        </p:grpSpPr>
        <p:sp>
          <p:nvSpPr>
            <p:cNvPr id="111" name=""/>
            <p:cNvSpPr/>
            <p:nvPr/>
          </p:nvSpPr>
          <p:spPr>
            <a:xfrm>
              <a:off x="6477120" y="239868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09120" y="2376360"/>
              <a:ext cx="1916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 am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28200" y="2529000"/>
            <a:ext cx="1581480" cy="368280"/>
            <a:chOff x="628200" y="2529000"/>
            <a:chExt cx="1581480" cy="368280"/>
          </a:xfrm>
        </p:grpSpPr>
        <p:sp>
          <p:nvSpPr>
            <p:cNvPr id="114" name=""/>
            <p:cNvSpPr/>
            <p:nvPr/>
          </p:nvSpPr>
          <p:spPr>
            <a:xfrm>
              <a:off x="1888920" y="25513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8200" y="2529000"/>
              <a:ext cx="118188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2160" y="3522600"/>
            <a:ext cx="1937520" cy="368280"/>
            <a:chOff x="272160" y="3522600"/>
            <a:chExt cx="1937520" cy="368280"/>
          </a:xfrm>
        </p:grpSpPr>
        <p:sp>
          <p:nvSpPr>
            <p:cNvPr id="117" name=""/>
            <p:cNvSpPr/>
            <p:nvPr/>
          </p:nvSpPr>
          <p:spPr>
            <a:xfrm>
              <a:off x="1889280" y="354492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60" y="3522600"/>
              <a:ext cx="1538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 tit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38680" y="3522600"/>
            <a:ext cx="2323800" cy="368280"/>
            <a:chOff x="5638680" y="3522600"/>
            <a:chExt cx="2323800" cy="368280"/>
          </a:xfrm>
        </p:grpSpPr>
        <p:sp>
          <p:nvSpPr>
            <p:cNvPr id="120" name=""/>
            <p:cNvSpPr/>
            <p:nvPr/>
          </p:nvSpPr>
          <p:spPr>
            <a:xfrm>
              <a:off x="5638680" y="354492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70320" y="3522600"/>
              <a:ext cx="18921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nse am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2080" y="3962520"/>
            <a:ext cx="2127600" cy="368280"/>
            <a:chOff x="82080" y="3962520"/>
            <a:chExt cx="2127600" cy="368280"/>
          </a:xfrm>
        </p:grpSpPr>
        <p:sp>
          <p:nvSpPr>
            <p:cNvPr id="123" name=""/>
            <p:cNvSpPr/>
            <p:nvPr/>
          </p:nvSpPr>
          <p:spPr>
            <a:xfrm>
              <a:off x="1889280" y="398448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080" y="3962520"/>
              <a:ext cx="1727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expe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77120" y="3962520"/>
            <a:ext cx="2413080" cy="368280"/>
            <a:chOff x="6477120" y="3962520"/>
            <a:chExt cx="2413080" cy="368280"/>
          </a:xfrm>
        </p:grpSpPr>
        <p:sp>
          <p:nvSpPr>
            <p:cNvPr id="126" name=""/>
            <p:cNvSpPr/>
            <p:nvPr/>
          </p:nvSpPr>
          <p:spPr>
            <a:xfrm>
              <a:off x="6477120" y="3984480"/>
              <a:ext cx="32040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08040" y="3962520"/>
              <a:ext cx="19821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of expe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00080" y="4495680"/>
            <a:ext cx="1747440" cy="368280"/>
            <a:chOff x="1900080" y="4495680"/>
            <a:chExt cx="1747440" cy="368280"/>
          </a:xfrm>
        </p:grpSpPr>
        <p:sp>
          <p:nvSpPr>
            <p:cNvPr id="129" name=""/>
            <p:cNvSpPr/>
            <p:nvPr/>
          </p:nvSpPr>
          <p:spPr>
            <a:xfrm>
              <a:off x="1900080" y="45180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99320" y="4495680"/>
              <a:ext cx="13482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et Inc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11800" y="1447920"/>
            <a:ext cx="1631520" cy="2570040"/>
            <a:chOff x="4411800" y="1447920"/>
            <a:chExt cx="1631520" cy="2570040"/>
          </a:xfrm>
        </p:grpSpPr>
        <p:sp>
          <p:nvSpPr>
            <p:cNvPr id="132" name=""/>
            <p:cNvSpPr/>
            <p:nvPr/>
          </p:nvSpPr>
          <p:spPr>
            <a:xfrm>
              <a:off x="4572000" y="173196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1800" y="1447920"/>
              <a:ext cx="1631520" cy="368280"/>
              <a:chOff x="4411800" y="1447920"/>
              <a:chExt cx="1631520" cy="36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411800" y="1470240"/>
                <a:ext cx="32076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12480" y="1447920"/>
                <a:ext cx="123084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ngle 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6380280" y="4287960"/>
            <a:ext cx="2226240" cy="971280"/>
            <a:chOff x="6380280" y="4287960"/>
            <a:chExt cx="2226240" cy="971280"/>
          </a:xfrm>
        </p:grpSpPr>
        <p:sp>
          <p:nvSpPr>
            <p:cNvPr id="137" name=""/>
            <p:cNvSpPr/>
            <p:nvPr/>
          </p:nvSpPr>
          <p:spPr>
            <a:xfrm>
              <a:off x="6380280" y="4287960"/>
              <a:ext cx="685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943680" y="4890960"/>
              <a:ext cx="1662840" cy="368280"/>
              <a:chOff x="6943680" y="4890960"/>
              <a:chExt cx="166284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6943680" y="4913280"/>
                <a:ext cx="320400" cy="32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75680" y="4890960"/>
                <a:ext cx="123084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ngle 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876920" y="4551480"/>
            <a:ext cx="2710080" cy="1774800"/>
            <a:chOff x="4876920" y="4551480"/>
            <a:chExt cx="2710080" cy="1774800"/>
          </a:xfrm>
        </p:grpSpPr>
        <p:sp>
          <p:nvSpPr>
            <p:cNvPr id="142" name=""/>
            <p:cNvSpPr/>
            <p:nvPr/>
          </p:nvSpPr>
          <p:spPr>
            <a:xfrm>
              <a:off x="5035680" y="45514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876920" y="5958000"/>
              <a:ext cx="2710080" cy="368280"/>
              <a:chOff x="4876920" y="5958000"/>
              <a:chExt cx="2710080" cy="368280"/>
            </a:xfrm>
          </p:grpSpPr>
          <p:sp>
            <p:nvSpPr>
              <p:cNvPr id="144" name=""/>
              <p:cNvSpPr/>
              <p:nvPr/>
            </p:nvSpPr>
            <p:spPr>
              <a:xfrm>
                <a:off x="4876920" y="597996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77240" y="5958000"/>
                <a:ext cx="230976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lculate net inco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2895480" y="4495680"/>
            <a:ext cx="1865880" cy="901800"/>
            <a:chOff x="2895480" y="4495680"/>
            <a:chExt cx="1865880" cy="901800"/>
          </a:xfrm>
        </p:grpSpPr>
        <p:sp>
          <p:nvSpPr>
            <p:cNvPr id="147" name=""/>
            <p:cNvSpPr/>
            <p:nvPr/>
          </p:nvSpPr>
          <p:spPr>
            <a:xfrm>
              <a:off x="4038480" y="4495680"/>
              <a:ext cx="304920" cy="822600"/>
            </a:xfrm>
            <a:custGeom>
              <a:avLst/>
              <a:gdLst/>
              <a:ahLst/>
              <a:rect l="l" t="t" r="r" b="b"/>
              <a:pathLst>
                <a:path w="192" h="768">
                  <a:moveTo>
                    <a:pt x="192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895480" y="5029200"/>
              <a:ext cx="1865880" cy="368280"/>
              <a:chOff x="2895480" y="5029200"/>
              <a:chExt cx="186588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2895480" y="505152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327840" y="5029200"/>
                <a:ext cx="143352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ouble li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126040" y="4384800"/>
            <a:ext cx="2526840" cy="1434960"/>
            <a:chOff x="5126040" y="4384800"/>
            <a:chExt cx="2526840" cy="1434960"/>
          </a:xfrm>
        </p:grpSpPr>
        <p:sp>
          <p:nvSpPr>
            <p:cNvPr id="152" name=""/>
            <p:cNvSpPr/>
            <p:nvPr/>
          </p:nvSpPr>
          <p:spPr>
            <a:xfrm>
              <a:off x="5278320" y="4384800"/>
              <a:ext cx="304920" cy="1219320"/>
            </a:xfrm>
            <a:custGeom>
              <a:avLst/>
              <a:gdLst/>
              <a:ahLst/>
              <a:rect l="l" t="t" r="r" b="b"/>
              <a:pathLst>
                <a:path w="192" h="768">
                  <a:moveTo>
                    <a:pt x="192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126040" y="5451480"/>
              <a:ext cx="2526840" cy="368280"/>
              <a:chOff x="5126040" y="5451480"/>
              <a:chExt cx="252684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5126040" y="547380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58040" y="5451480"/>
                <a:ext cx="209484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rd net inco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3051000" y="2376360"/>
            <a:ext cx="1823400" cy="368280"/>
            <a:chOff x="3051000" y="2376360"/>
            <a:chExt cx="1823400" cy="368280"/>
          </a:xfrm>
        </p:grpSpPr>
        <p:sp>
          <p:nvSpPr>
            <p:cNvPr id="157" name=""/>
            <p:cNvSpPr/>
            <p:nvPr/>
          </p:nvSpPr>
          <p:spPr>
            <a:xfrm>
              <a:off x="3051000" y="239868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50240" y="2376360"/>
              <a:ext cx="14241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2117-C7E2-4D48-A224-128C4F92617D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PERCENTAGE ANALYSIS OF AN INCOM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C21_blue_0705" descr=""/>
          <p:cNvPicPr/>
          <p:nvPr/>
        </p:nvPicPr>
        <p:blipFill>
          <a:blip r:embed="rId1"/>
          <a:srcRect l="0" t="2779" r="0" b="5856"/>
          <a:stretch/>
        </p:blipFill>
        <p:spPr>
          <a:xfrm>
            <a:off x="304920" y="1351080"/>
            <a:ext cx="8381880" cy="502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DB12-4DAE-4558-953C-94069070420C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073240" y="2043000"/>
            <a:ext cx="5484600" cy="3373200"/>
            <a:chOff x="2073240" y="2043000"/>
            <a:chExt cx="5484600" cy="3373200"/>
          </a:xfrm>
        </p:grpSpPr>
        <p:pic>
          <p:nvPicPr>
            <p:cNvPr id="163" name="C21_blue_0708" descr=""/>
            <p:cNvPicPr/>
            <p:nvPr/>
          </p:nvPicPr>
          <p:blipFill>
            <a:blip r:embed="rId1"/>
            <a:srcRect l="54790" t="19906" r="0" b="0"/>
            <a:stretch/>
          </p:blipFill>
          <p:spPr>
            <a:xfrm>
              <a:off x="4538160" y="2043000"/>
              <a:ext cx="3019680" cy="33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C21_blue_0708" descr=""/>
            <p:cNvPicPr/>
            <p:nvPr/>
          </p:nvPicPr>
          <p:blipFill>
            <a:blip r:embed="rId2"/>
            <a:srcRect l="0" t="19906" r="65477" b="0"/>
            <a:stretch/>
          </p:blipFill>
          <p:spPr>
            <a:xfrm>
              <a:off x="2073240" y="2043000"/>
              <a:ext cx="2305440" cy="33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STATEMENT WITH TWO SOURCES OF REVENUE AND A NE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39800" y="2347920"/>
            <a:ext cx="1492200" cy="368280"/>
            <a:chOff x="739800" y="2347920"/>
            <a:chExt cx="1492200" cy="368280"/>
          </a:xfrm>
        </p:grpSpPr>
        <p:sp>
          <p:nvSpPr>
            <p:cNvPr id="168" name=""/>
            <p:cNvSpPr/>
            <p:nvPr/>
          </p:nvSpPr>
          <p:spPr>
            <a:xfrm>
              <a:off x="1911240" y="237024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9800" y="2347920"/>
              <a:ext cx="10922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889600" y="2805120"/>
            <a:ext cx="2462760" cy="368280"/>
            <a:chOff x="5889600" y="2805120"/>
            <a:chExt cx="2462760" cy="368280"/>
          </a:xfrm>
        </p:grpSpPr>
        <p:sp>
          <p:nvSpPr>
            <p:cNvPr id="171" name=""/>
            <p:cNvSpPr/>
            <p:nvPr/>
          </p:nvSpPr>
          <p:spPr>
            <a:xfrm>
              <a:off x="5889600" y="282744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21600" y="2805120"/>
              <a:ext cx="20307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 amou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3040" y="2805120"/>
            <a:ext cx="1978920" cy="368280"/>
            <a:chOff x="383040" y="2805120"/>
            <a:chExt cx="1978920" cy="368280"/>
          </a:xfrm>
        </p:grpSpPr>
        <p:sp>
          <p:nvSpPr>
            <p:cNvPr id="174" name=""/>
            <p:cNvSpPr/>
            <p:nvPr/>
          </p:nvSpPr>
          <p:spPr>
            <a:xfrm>
              <a:off x="2041200" y="282744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040" y="2805120"/>
              <a:ext cx="1538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 tit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10280" y="4710240"/>
            <a:ext cx="1521720" cy="368280"/>
            <a:chOff x="710280" y="4710240"/>
            <a:chExt cx="1521720" cy="368280"/>
          </a:xfrm>
        </p:grpSpPr>
        <p:sp>
          <p:nvSpPr>
            <p:cNvPr id="177" name=""/>
            <p:cNvSpPr/>
            <p:nvPr/>
          </p:nvSpPr>
          <p:spPr>
            <a:xfrm>
              <a:off x="1911600" y="4732200"/>
              <a:ext cx="32040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0280" y="4710240"/>
              <a:ext cx="10814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et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441680" y="4917960"/>
            <a:ext cx="2311200" cy="1241280"/>
            <a:chOff x="4441680" y="4917960"/>
            <a:chExt cx="2311200" cy="1241280"/>
          </a:xfrm>
        </p:grpSpPr>
        <p:sp>
          <p:nvSpPr>
            <p:cNvPr id="180" name=""/>
            <p:cNvSpPr/>
            <p:nvPr/>
          </p:nvSpPr>
          <p:spPr>
            <a:xfrm>
              <a:off x="4593960" y="4917960"/>
              <a:ext cx="1446120" cy="1219320"/>
            </a:xfrm>
            <a:custGeom>
              <a:avLst/>
              <a:gdLst/>
              <a:ahLst/>
              <a:rect l="l" t="t" r="r" b="b"/>
              <a:pathLst>
                <a:path w="192" h="768">
                  <a:moveTo>
                    <a:pt x="192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441680" y="5790960"/>
              <a:ext cx="2311200" cy="368280"/>
              <a:chOff x="4441680" y="5790960"/>
              <a:chExt cx="2311200" cy="368280"/>
            </a:xfrm>
          </p:grpSpPr>
          <p:sp>
            <p:nvSpPr>
              <p:cNvPr id="182" name=""/>
              <p:cNvSpPr/>
              <p:nvPr/>
            </p:nvSpPr>
            <p:spPr>
              <a:xfrm>
                <a:off x="4441680" y="581328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72960" y="5790960"/>
                <a:ext cx="187992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r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Net Lo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679920" y="1600200"/>
            <a:ext cx="2586960" cy="1738440"/>
            <a:chOff x="3679920" y="1600200"/>
            <a:chExt cx="2586960" cy="1738440"/>
          </a:xfrm>
        </p:grpSpPr>
        <p:sp>
          <p:nvSpPr>
            <p:cNvPr id="185" name=""/>
            <p:cNvSpPr/>
            <p:nvPr/>
          </p:nvSpPr>
          <p:spPr>
            <a:xfrm>
              <a:off x="3679920" y="1814400"/>
              <a:ext cx="609480" cy="1524240"/>
            </a:xfrm>
            <a:custGeom>
              <a:avLst/>
              <a:gdLst/>
              <a:ahLst/>
              <a:rect l="l" t="t" r="r" b="b"/>
              <a:pathLst>
                <a:path w="384" h="960">
                  <a:moveTo>
                    <a:pt x="0" y="960"/>
                  </a:moveTo>
                  <a:lnTo>
                    <a:pt x="384" y="960"/>
                  </a:lnTo>
                  <a:lnTo>
                    <a:pt x="3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37120" y="1600200"/>
              <a:ext cx="2129760" cy="368280"/>
              <a:chOff x="4137120" y="1600200"/>
              <a:chExt cx="212976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4137120" y="1622520"/>
                <a:ext cx="320400" cy="32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3320" y="1600200"/>
                <a:ext cx="166356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423120" y="3429000"/>
            <a:ext cx="2260800" cy="687240"/>
            <a:chOff x="6423120" y="3429000"/>
            <a:chExt cx="2260800" cy="687240"/>
          </a:xfrm>
        </p:grpSpPr>
        <p:sp>
          <p:nvSpPr>
            <p:cNvPr id="190" name=""/>
            <p:cNvSpPr/>
            <p:nvPr/>
          </p:nvSpPr>
          <p:spPr>
            <a:xfrm>
              <a:off x="6575400" y="3429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423120" y="3747960"/>
              <a:ext cx="2260800" cy="368280"/>
              <a:chOff x="6423120" y="3747960"/>
              <a:chExt cx="2260800" cy="368280"/>
            </a:xfrm>
          </p:grpSpPr>
          <p:sp>
            <p:nvSpPr>
              <p:cNvPr id="192" name=""/>
              <p:cNvSpPr/>
              <p:nvPr/>
            </p:nvSpPr>
            <p:spPr>
              <a:xfrm>
                <a:off x="6423120" y="3770280"/>
                <a:ext cx="320400" cy="32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54400" y="3747960"/>
                <a:ext cx="182952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otal of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1AC4-041D-4A3D-B841-915F789B2F81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perce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DF6F-177D-4DF5-BA6E-D0B98BB33966}" type="slidenum">
              <a:t>7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04Z</dcterms:created>
  <dc:creator>M. C. McLaughlin</dc:creator>
  <dc:description/>
  <dc:language>en-US</dc:language>
  <cp:lastModifiedBy>M. C. McLaughlin</cp:lastModifiedBy>
  <dcterms:modified xsi:type="dcterms:W3CDTF">2005-04-22T22:03:24Z</dcterms:modified>
  <cp:revision>21</cp:revision>
  <dc:subject/>
  <dc:title>Lesson 7-1</dc:title>
</cp:coreProperties>
</file>